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B649-9CC9-4678-B836-C2D22840E81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02DF-CC6F-487F-B89F-8937F74B840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9547-444C-4D66-8D93-0CDD1DF60F8F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FE57-277D-458F-8C98-A7C71E2F7B7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729A-9140-45AF-9951-B60B4A2A707E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CA1F-C517-4C67-81E3-9AE8FEBA627F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0D11-98C3-4471-AEEE-D0D2B1362501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238E-7FA8-45C7-9DEC-CC2D2B0C1940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6EE3-15FC-439D-9348-9094496BCED6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9F32-354A-4E60-9BAC-BD32895A8470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27EF-F751-4ED9-B2EA-59B27E2DE4C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7044-74C0-40AE-8944-C4F233A7EAD1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18F3-CC5F-40FC-BB9E-ED9E0D5224C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732-8341-44AE-8607-E67A4C46B99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8C60-2954-4319-AB67-942D3E7593C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6D1F-AF95-4C5D-92AE-7A9DA9CE073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3090-15F5-48A9-BF29-740190C959F2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DA8A-6926-433B-A5F2-5EF9A0845F9D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CE34-A260-4EF6-A31C-1261FDF4C06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121-98C6-491B-9D6F-14C19343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941-FE65-4E8B-9AD0-14DC6859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AA4-218F-4D70-A490-AAC9239A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29B-0966-4B12-9438-2A5ECC97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45E-2245-44C1-BD60-29D94D7D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222-68A5-46E1-BAB1-E44D5E49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5FF-6CC7-4B08-A286-FA226FEA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D84-A8E2-471F-B871-7E2B53A1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7A9-E075-413D-A743-3F32708C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4C1-7CBF-479E-AB27-D73F6DC1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246-9028-4B26-9AE5-6A6B95E8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651-C0B5-44EB-9B2B-7555DEB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D30D-8216-4506-BC4E-E391CBBA0D28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87280" y="285264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estão e Gerenciamento Integrado de Resíduos Sól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70000" y="457200"/>
            <a:ext cx="2438280" cy="703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Gerenciament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328920" y="615960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1447920" y="3124080"/>
            <a:ext cx="1440" cy="3353040"/>
          </a:xfrm>
          <a:prstGeom prst="line">
            <a:avLst/>
          </a:prstGeom>
          <a:ln w="76320">
            <a:solidFill>
              <a:srgbClr val="ff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1447920" y="6477120"/>
            <a:ext cx="1600200" cy="1440"/>
          </a:xfrm>
          <a:prstGeom prst="line">
            <a:avLst/>
          </a:prstGeom>
          <a:ln w="76320">
            <a:solidFill>
              <a:srgbClr val="ff3399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Object 19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0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0" y="350532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28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32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7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3328920" y="615960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 – Modelo Tecnol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41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42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0" y="350028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4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4"/>
          <p:cNvGraphicFramePr/>
          <p:nvPr/>
        </p:nvGraphicFramePr>
        <p:xfrm>
          <a:off x="1440" y="0"/>
          <a:ext cx="91411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0"/>
                    <a:ext cx="9141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5"/>
          <p:cNvSpPr/>
          <p:nvPr/>
        </p:nvSpPr>
        <p:spPr>
          <a:xfrm>
            <a:off x="900000" y="3141720"/>
            <a:ext cx="720720" cy="1297080"/>
          </a:xfrm>
          <a:custGeom>
            <a:avLst/>
            <a:gdLst>
              <a:gd name="textAreaLeft" fmla="*/ 96480 w 720720"/>
              <a:gd name="textAreaRight" fmla="*/ 624240 w 72072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7812000" y="3213000"/>
            <a:ext cx="576360" cy="158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995640" y="5229360"/>
            <a:ext cx="1366920" cy="43308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8"/>
          <p:cNvSpPr/>
          <p:nvPr/>
        </p:nvSpPr>
        <p:spPr>
          <a:xfrm rot="2367600">
            <a:off x="2742840" y="1252080"/>
            <a:ext cx="503280" cy="1150920"/>
          </a:xfrm>
          <a:custGeom>
            <a:avLst/>
            <a:gdLst>
              <a:gd name="textAreaLeft" fmla="*/ 67320 w 503280"/>
              <a:gd name="textAreaRight" fmla="*/ 435960 w 503280"/>
              <a:gd name="textAreaTop" fmla="*/ 191160 h 1150920"/>
              <a:gd name="textAreaBottom" fmla="*/ 7905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8" stAng="-5400000" swAng="-5400000"/>
                <a:lnTo>
                  <a:pt x="0" y="11248"/>
                </a:lnTo>
                <a:arcTo wR="21600" hR="7178" stAng="10800000" swAng="-2593581"/>
                <a:lnTo>
                  <a:pt x="14400" y="21189"/>
                </a:lnTo>
                <a:lnTo>
                  <a:pt x="21600" y="16391"/>
                </a:lnTo>
                <a:lnTo>
                  <a:pt x="14400" y="10771"/>
                </a:lnTo>
                <a:lnTo>
                  <a:pt x="14400" y="13945"/>
                </a:lnTo>
                <a:arcTo wR="21600" hR="7178" stAng="8206419" swAng="2256924"/>
                <a:lnTo>
                  <a:pt x="886" y="9213"/>
                </a:lnTo>
                <a:arcTo wR="21600" hR="7178" stAng="-10463343" swAng="5063343"/>
                <a:close/>
              </a:path>
              <a:path fill="darkenLess" w="21600" h="21600">
                <a:moveTo>
                  <a:pt x="21600" y="0"/>
                </a:moveTo>
                <a:arcTo wR="21600" hR="7178" stAng="-5400000" swAng="-5400000"/>
                <a:lnTo>
                  <a:pt x="0" y="7178"/>
                </a:lnTo>
                <a:arcTo wR="21600" hR="7178" stAng="10800000" swAng="-336657"/>
                <a:lnTo>
                  <a:pt x="886" y="9213"/>
                </a:lnTo>
                <a:arcTo wR="21600" hR="7178" stAng="-10463343" swAng="5063343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 rot="12886800">
            <a:off x="6059160" y="1628640"/>
            <a:ext cx="1320840" cy="650880"/>
          </a:xfrm>
          <a:custGeom>
            <a:avLst/>
            <a:gdLst>
              <a:gd name="textAreaLeft" fmla="*/ 231120 w 1320840"/>
              <a:gd name="textAreaRight" fmla="*/ 957600 w 1320840"/>
              <a:gd name="textAreaTop" fmla="*/ 87120 h 650880"/>
              <a:gd name="textAreaBottom" fmla="*/ 56376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138760" y="33336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9536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1773360"/>
            <a:ext cx="914400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 – PELO MUNICÍP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retamente pelo municíp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pública especí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de economia m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 – EXECUÇÃO INDIRET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rceir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órcio inter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84120" y="33336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oncessão, a concessionária planeja, organiza, executa e coordena o serviço, </a:t>
            </a:r>
            <a:r>
              <a:rPr b="0" lang="pt-BR" sz="1800" spc="-1" strike="noStrike">
                <a:solidFill>
                  <a:srgbClr val="ff9900"/>
                </a:solidFill>
                <a:latin typeface="Arial"/>
              </a:rPr>
              <a:t>podendo inclusive terceirizar operações e arrecadar os pagamentos referentes à sua remuneração, diretamente junto ao usuário/beneficiário dos serviços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As concessões em geral são objeto de contratos a longo termo que possam garantir o retorno dos investimentos aplicados no sistema. Mas a grande dificuldade está nas poucas garantias que as concessionárias recebem quanto à arrecadação e o pagamento dos seus serviços e na fragilidade dos municípios em preparar os editais de concessão, conhecer custos e fiscalizar serviç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95280" y="347184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rcer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terceirização consolida o conceito próprio da administração pública, qual seja, de exercer as funções prioritárias de planejamento, coordenação e fiscalização, podendo deixar às empresas privadas a operação propriamente dita. É importante lembrar que a terceirização de serviços pode ser manifestada em diversas escalas, desde a contratação de empresas bem estruturadas com especialidade em determinado segmento operacional ­ tais como as operações nos aterros sanitários, até a contratação de microempresas ou trabalhadores autônomos, que possam promover, por exemplo, coleta com transporte de tração animal ou a operação manual de aterros de pequeno po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468360" y="620640"/>
            <a:ext cx="81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só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onsórcio caracteriza-se como um acordo entre municípios com o objetivo de alcançar metas comuns previamente estabelecidas. Para tanto, recursos ­ sejam humanos ou financeiros ­ dos municípios integrantes são reunidos sob a forma de um consórcio a fim de viabilizar a implantação de ação, programa ou projeto desej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39640" y="3573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Quaisquer das alternativas ou de suas possíveis combinações, devem ser escolhidas com base no binômio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aixo custo-técnica ambiental corre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sempre visando um sistema auto-sustentáv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95360" y="47412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162864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I – Formas de Contra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Glob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Unitár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re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25092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CONTRAT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5280" y="1773360"/>
            <a:ext cx="84582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S DE LICI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NOR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LHOR TÉC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ultoria geralmente 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3 R´s - REDUZIR, REUTILIZAR, RECICLA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482760" y="1447920"/>
          <a:ext cx="818028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447920"/>
                    <a:ext cx="8180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Hierarquia de ações da Gestão  de Resíduos Sólid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0" y="3886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E PÓS-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78168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pensar</a:t>
            </a: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5720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duz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2388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edu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003640" y="364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util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93432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e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32448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olucio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02920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cic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539640" y="198900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3352680" y="5486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T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371600" y="5181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Dis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36232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MINIM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539640" y="191628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8840" y="1039680"/>
            <a:ext cx="867564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TAX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um tributo resultante da oferta de um serviço pelo poder público, de pagamento obrigatório, que o contribuinte o utilize ou não, só pode ser criada mediante le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TARIF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 cobrado por um serviço prestado de forma facultativa. A tarifa somente é devida quando da efetiva utilização do serviço pelo usuário, serviço este que deverá ser bem definido e mensurado. O pagamento é obrigatório somente para usuários ef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114480"/>
            <a:ext cx="856908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MOS REFLETIR UM POUC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faz com os resíduos que produz diariament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com o lixo de cada di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o poder público faz para gerenciar estes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quando tomamos atitudes incorretas no descarte de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Qual a sua participação no modelo de gestão implantado em seu municípi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or que há pessoas morando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ara onde vão os recursos gerados pela coleta seletiv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pode fazer para muar este cenário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395280" y="332280"/>
            <a:ext cx="87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 -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O COBRAR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68360" y="1413000"/>
            <a:ext cx="858528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Fortaleza (tarif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tarifa foi baseada no volume de lixo de zonas da cidade (25 zonas), as faixas de consumo de energia e a área do imóv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São Paulo (tax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aseou-se em uma declaração voluntária da quantidade de lixo gerada pelo usu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611280" y="1989000"/>
          <a:ext cx="7993080" cy="3840480"/>
        </p:xfrm>
        <a:graphic>
          <a:graphicData uri="http://schemas.openxmlformats.org/drawingml/2006/table">
            <a:tbl>
              <a:tblPr/>
              <a:tblGrid>
                <a:gridCol w="3108240"/>
                <a:gridCol w="2220840"/>
                <a:gridCol w="2664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ix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ração por 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lor por mês (R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iden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r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é 1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a 2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,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 a 3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 a 60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is de 60 litros (60 a 1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 a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2,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ima de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de gerador – necessita contratar empresa cadastrada pela prefeitura e arcar com os cus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Text Box 133"/>
          <p:cNvSpPr/>
          <p:nvPr/>
        </p:nvSpPr>
        <p:spPr>
          <a:xfrm>
            <a:off x="0" y="112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aixa e Valores para cobrança dos serviços de coleta de resíduos urbanos na cidade de São Paulo -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4"/>
          <p:cNvSpPr/>
          <p:nvPr/>
        </p:nvSpPr>
        <p:spPr>
          <a:xfrm>
            <a:off x="395280" y="33228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0" y="155736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3 - A Taxa de Limpeza Pública - TLP tem como fato gerador a utilização efetiva ou potencial dos serviços municipais de coleta, remoção e destinação de lixo, prestados ao contribuinte ou postos à sua disposi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4 - A taxa é calculada com base na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UFIR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de acordo com as seguintes fórmul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 - para os imóveis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LP = Ui x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R$ 27,28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x Ac (onde: Ui = fator de utilização do imóvel, Ac = área construíd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II - para imóveis não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TLP = At x 0,03 x R$ 27,2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nde: At = área do terre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1º - Na hipótese de utilização diversificada do imóvel, é aplicado o maior fator de utilização do imóvel (Ui), no cálculo da TL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2º - A taxa é cobrada em dobro para os imóveis não edificados e desprovidos de m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0920" y="33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II – Natal (taxa,cobrada em conjunto com o IPTU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aseada no tipo de tipo de uso e área do imó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684360" y="1185840"/>
            <a:ext cx="807696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CAMINHOS DA POLÍTICA NACIONAL DE RESÍDUOS SÓLID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DAPTADO DA APRESENTAÇÃO DE MARCO ANTONIO BOZINO DO M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6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454040"/>
            <a:ext cx="8534520" cy="57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nal da década de 80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rimeiras iniciativas legislativas para definição de diretrizes para resídu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resentado o PL 203 e, posteriormente, apensados cerca de 70 P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elho do CONAMA aprova Proposiçã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riada na Câmara dos Deputados a Comissão Especial de  Política Nacional de Resíduos”, tendo o Dep. Emerson Kapaz - Substitutivo Global da PL 203/91 e seus apensos. Comissão extinta pelo encerramento da legisl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4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QA/MMA reinicia as discussões internas com a                 Participação das diversas Secretarias do MMA, PNMA, PNMA,  IBAMA e GTI de Saneamento Ambie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gosto de 2004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aliza o Seminário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“ Contribuições à Proposição CONAMA - Política Nacional de Resíduos Sólidos”com 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icipação da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EF, ANVISA, MTE, MDS, MCidades, IBAMA, ANA, Petrobrás, Câmara dos Deputados, OEMA’s,ABRS, ABEMA, ABIPET, ABRE, ABRELPE, ABPL, ASCAMAR, CNI, CNC, FIESP/CIESP, CEMPRE, universidades, empresas de consultoria,  prefeituras municipais e setor produ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5 - Criado o GT-GAU/SQA de Consolidação para a PNR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Sistematização das contribuições do Seminári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181480" y="5629320"/>
            <a:ext cx="2295720" cy="84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81280" y="3008160"/>
            <a:ext cx="1868760" cy="1411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1057320" y="4943520"/>
            <a:ext cx="237168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4"/>
          <a:stretch/>
        </p:blipFill>
        <p:spPr>
          <a:xfrm>
            <a:off x="5867280" y="38768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5"/>
          <a:stretch/>
        </p:blipFill>
        <p:spPr>
          <a:xfrm>
            <a:off x="752400" y="3571920"/>
            <a:ext cx="1838520" cy="1000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6"/>
          <a:stretch/>
        </p:blipFill>
        <p:spPr>
          <a:xfrm>
            <a:off x="600120" y="1971720"/>
            <a:ext cx="2448000" cy="1000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7"/>
          <a:stretch/>
        </p:blipFill>
        <p:spPr>
          <a:xfrm>
            <a:off x="6095880" y="20480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8"/>
          <a:stretch/>
        </p:blipFill>
        <p:spPr>
          <a:xfrm>
            <a:off x="3343320" y="1133640"/>
            <a:ext cx="2066760" cy="847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29808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ONTES DE CONSUL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66360" y="1562040"/>
            <a:ext cx="77691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ÇÕES                                                         PROJE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IS                                                         DE L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AS                           CON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S                                                           LIT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 PNR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4495680" y="205740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5698800" y="3048120"/>
            <a:ext cx="336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3124080" y="2971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2895480" y="39625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3505320" y="4556160"/>
            <a:ext cx="22860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 flipH="1">
            <a:off x="5470200" y="4114800"/>
            <a:ext cx="260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4952880" y="4648320"/>
            <a:ext cx="3812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7467480" y="6583320"/>
            <a:ext cx="1676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00"/>
                </a:solidFill>
                <a:latin typeface="Times New Roman"/>
              </a:rPr>
              <a:t>GAU/PGT/SQA/M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17"/>
          <p:cNvSpPr/>
          <p:nvPr/>
        </p:nvSpPr>
        <p:spPr>
          <a:xfrm>
            <a:off x="7238880" y="5715000"/>
            <a:ext cx="10670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18"/>
          <p:cNvSpPr/>
          <p:nvPr/>
        </p:nvSpPr>
        <p:spPr>
          <a:xfrm>
            <a:off x="3352680" y="5715000"/>
            <a:ext cx="26672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119"/>
          <p:cNvSpPr/>
          <p:nvPr/>
        </p:nvSpPr>
        <p:spPr>
          <a:xfrm>
            <a:off x="5105520" y="4876920"/>
            <a:ext cx="320040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120"/>
          <p:cNvSpPr/>
          <p:nvPr/>
        </p:nvSpPr>
        <p:spPr>
          <a:xfrm>
            <a:off x="2438280" y="4876920"/>
            <a:ext cx="190512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121"/>
          <p:cNvSpPr/>
          <p:nvPr/>
        </p:nvSpPr>
        <p:spPr>
          <a:xfrm>
            <a:off x="838080" y="4038480"/>
            <a:ext cx="3962520" cy="457200"/>
          </a:xfrm>
          <a:prstGeom prst="roundRect">
            <a:avLst>
              <a:gd name="adj" fmla="val 34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122"/>
          <p:cNvSpPr/>
          <p:nvPr/>
        </p:nvSpPr>
        <p:spPr>
          <a:xfrm>
            <a:off x="6553080" y="2286000"/>
            <a:ext cx="175284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123"/>
          <p:cNvSpPr/>
          <p:nvPr/>
        </p:nvSpPr>
        <p:spPr>
          <a:xfrm>
            <a:off x="495288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124"/>
          <p:cNvSpPr/>
          <p:nvPr/>
        </p:nvSpPr>
        <p:spPr>
          <a:xfrm>
            <a:off x="350532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125"/>
          <p:cNvSpPr/>
          <p:nvPr/>
        </p:nvSpPr>
        <p:spPr>
          <a:xfrm>
            <a:off x="205740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126"/>
          <p:cNvSpPr/>
          <p:nvPr/>
        </p:nvSpPr>
        <p:spPr>
          <a:xfrm>
            <a:off x="533520" y="2286000"/>
            <a:ext cx="129528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27"/>
          <p:cNvSpPr/>
          <p:nvPr/>
        </p:nvSpPr>
        <p:spPr>
          <a:xfrm>
            <a:off x="3962520" y="1143000"/>
            <a:ext cx="799920" cy="457200"/>
          </a:xfrm>
          <a:prstGeom prst="roundRect">
            <a:avLst>
              <a:gd name="adj" fmla="val 34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128"/>
          <p:cNvSpPr/>
          <p:nvPr/>
        </p:nvSpPr>
        <p:spPr>
          <a:xfrm>
            <a:off x="685800" y="93600"/>
            <a:ext cx="7772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GRAÇÃO DAS 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129"/>
          <p:cNvSpPr/>
          <p:nvPr/>
        </p:nvSpPr>
        <p:spPr>
          <a:xfrm>
            <a:off x="685800" y="1219320"/>
            <a:ext cx="77724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ÉRIOS                                                                                                              REPRESENT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ÓRGÃOS               ESTADOS                  DF                    MUNICÍPIOS                             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DERAIS                                                                                                                         SOCIEDA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ENAR FORMAS DE IMPLEME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ULAR AÇÕES                     GARANTIR ACESSO A INFORM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ELECER PROGRAMAS                                  POLÍ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30"/>
          <p:cNvSpPr/>
          <p:nvPr/>
        </p:nvSpPr>
        <p:spPr>
          <a:xfrm>
            <a:off x="434340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31"/>
          <p:cNvSpPr/>
          <p:nvPr/>
        </p:nvSpPr>
        <p:spPr>
          <a:xfrm>
            <a:off x="4343400" y="1828800"/>
            <a:ext cx="31240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32"/>
          <p:cNvSpPr/>
          <p:nvPr/>
        </p:nvSpPr>
        <p:spPr>
          <a:xfrm>
            <a:off x="74674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33"/>
          <p:cNvSpPr/>
          <p:nvPr/>
        </p:nvSpPr>
        <p:spPr>
          <a:xfrm>
            <a:off x="5486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34"/>
          <p:cNvSpPr/>
          <p:nvPr/>
        </p:nvSpPr>
        <p:spPr>
          <a:xfrm>
            <a:off x="4343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35"/>
          <p:cNvSpPr/>
          <p:nvPr/>
        </p:nvSpPr>
        <p:spPr>
          <a:xfrm flipH="1">
            <a:off x="1203480" y="1828800"/>
            <a:ext cx="315576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36"/>
          <p:cNvSpPr/>
          <p:nvPr/>
        </p:nvSpPr>
        <p:spPr>
          <a:xfrm>
            <a:off x="121932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37"/>
          <p:cNvSpPr/>
          <p:nvPr/>
        </p:nvSpPr>
        <p:spPr>
          <a:xfrm>
            <a:off x="26668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1828800" y="27432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139"/>
          <p:cNvSpPr/>
          <p:nvPr/>
        </p:nvSpPr>
        <p:spPr>
          <a:xfrm>
            <a:off x="4648320" y="27432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40"/>
          <p:cNvSpPr/>
          <p:nvPr/>
        </p:nvSpPr>
        <p:spPr>
          <a:xfrm>
            <a:off x="609588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41"/>
          <p:cNvSpPr/>
          <p:nvPr/>
        </p:nvSpPr>
        <p:spPr>
          <a:xfrm>
            <a:off x="3200400" y="27432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42"/>
          <p:cNvSpPr/>
          <p:nvPr/>
        </p:nvSpPr>
        <p:spPr>
          <a:xfrm>
            <a:off x="44197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43"/>
          <p:cNvSpPr/>
          <p:nvPr/>
        </p:nvSpPr>
        <p:spPr>
          <a:xfrm flipH="1">
            <a:off x="2727000" y="3505320"/>
            <a:ext cx="170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44"/>
          <p:cNvSpPr/>
          <p:nvPr/>
        </p:nvSpPr>
        <p:spPr>
          <a:xfrm>
            <a:off x="2743200" y="35053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45"/>
          <p:cNvSpPr/>
          <p:nvPr/>
        </p:nvSpPr>
        <p:spPr>
          <a:xfrm>
            <a:off x="3276720" y="44956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146"/>
          <p:cNvSpPr/>
          <p:nvPr/>
        </p:nvSpPr>
        <p:spPr>
          <a:xfrm>
            <a:off x="4038480" y="52578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147"/>
          <p:cNvSpPr/>
          <p:nvPr/>
        </p:nvSpPr>
        <p:spPr>
          <a:xfrm>
            <a:off x="6019920" y="586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148"/>
          <p:cNvSpPr/>
          <p:nvPr/>
        </p:nvSpPr>
        <p:spPr>
          <a:xfrm flipV="1">
            <a:off x="7772400" y="5241960"/>
            <a:ext cx="144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49"/>
          <p:cNvSpPr/>
          <p:nvPr/>
        </p:nvSpPr>
        <p:spPr>
          <a:xfrm flipV="1">
            <a:off x="6781680" y="3489480"/>
            <a:ext cx="1800" cy="14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50"/>
          <p:cNvSpPr/>
          <p:nvPr/>
        </p:nvSpPr>
        <p:spPr>
          <a:xfrm flipH="1">
            <a:off x="5394240" y="3505320"/>
            <a:ext cx="1403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51"/>
          <p:cNvSpPr/>
          <p:nvPr/>
        </p:nvSpPr>
        <p:spPr>
          <a:xfrm flipV="1">
            <a:off x="4419720" y="1584000"/>
            <a:ext cx="144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52"/>
          <p:cNvSpPr/>
          <p:nvPr/>
        </p:nvSpPr>
        <p:spPr>
          <a:xfrm flipV="1">
            <a:off x="4495680" y="3184200"/>
            <a:ext cx="18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53"/>
          <p:cNvSpPr/>
          <p:nvPr/>
        </p:nvSpPr>
        <p:spPr>
          <a:xfrm flipH="1">
            <a:off x="4479840" y="3505320"/>
            <a:ext cx="102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154"/>
          <p:cNvGrpSpPr/>
          <p:nvPr/>
        </p:nvGrpSpPr>
        <p:grpSpPr>
          <a:xfrm>
            <a:off x="6472440" y="6450120"/>
            <a:ext cx="2671560" cy="385560"/>
            <a:chOff x="6472440" y="6450120"/>
            <a:chExt cx="2671560" cy="385560"/>
          </a:xfrm>
        </p:grpSpPr>
        <p:sp>
          <p:nvSpPr>
            <p:cNvPr id="273" name="AutoShape 155"/>
            <p:cNvSpPr/>
            <p:nvPr/>
          </p:nvSpPr>
          <p:spPr>
            <a:xfrm>
              <a:off x="6477120" y="6451560"/>
              <a:ext cx="265428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" name="Group 156"/>
            <p:cNvGrpSpPr/>
            <p:nvPr/>
          </p:nvGrpSpPr>
          <p:grpSpPr>
            <a:xfrm>
              <a:off x="6472440" y="6450120"/>
              <a:ext cx="2671560" cy="384120"/>
              <a:chOff x="6472440" y="6450120"/>
              <a:chExt cx="2671560" cy="384120"/>
            </a:xfrm>
          </p:grpSpPr>
          <p:sp>
            <p:nvSpPr>
              <p:cNvPr id="275" name="AutoShape 157"/>
              <p:cNvSpPr/>
              <p:nvPr/>
            </p:nvSpPr>
            <p:spPr>
              <a:xfrm>
                <a:off x="6477120" y="6451560"/>
                <a:ext cx="2643120" cy="37296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6" name="Group 158"/>
              <p:cNvGrpSpPr/>
              <p:nvPr/>
            </p:nvGrpSpPr>
            <p:grpSpPr>
              <a:xfrm>
                <a:off x="6472440" y="6450120"/>
                <a:ext cx="2671560" cy="384120"/>
                <a:chOff x="6472440" y="6450120"/>
                <a:chExt cx="2671560" cy="384120"/>
              </a:xfrm>
            </p:grpSpPr>
            <p:sp>
              <p:nvSpPr>
                <p:cNvPr id="277" name="AutoShape 159"/>
                <p:cNvSpPr/>
                <p:nvPr/>
              </p:nvSpPr>
              <p:spPr>
                <a:xfrm>
                  <a:off x="6477120" y="6451560"/>
                  <a:ext cx="263340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Group 160"/>
                <p:cNvGrpSpPr/>
                <p:nvPr/>
              </p:nvGrpSpPr>
              <p:grpSpPr>
                <a:xfrm>
                  <a:off x="6472440" y="6450120"/>
                  <a:ext cx="2671560" cy="384120"/>
                  <a:chOff x="6472440" y="6450120"/>
                  <a:chExt cx="2671560" cy="384120"/>
                </a:xfrm>
              </p:grpSpPr>
              <p:sp>
                <p:nvSpPr>
                  <p:cNvPr id="279" name="AutoShape 161"/>
                  <p:cNvSpPr/>
                  <p:nvPr/>
                </p:nvSpPr>
                <p:spPr>
                  <a:xfrm>
                    <a:off x="6477120" y="6451560"/>
                    <a:ext cx="2625480" cy="35712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" name="Group 162"/>
                  <p:cNvGrpSpPr/>
                  <p:nvPr/>
                </p:nvGrpSpPr>
                <p:grpSpPr>
                  <a:xfrm>
                    <a:off x="6472440" y="6450120"/>
                    <a:ext cx="2671560" cy="384120"/>
                    <a:chOff x="6472440" y="6450120"/>
                    <a:chExt cx="2671560" cy="384120"/>
                  </a:xfrm>
                </p:grpSpPr>
                <p:sp>
                  <p:nvSpPr>
                    <p:cNvPr id="281" name="AutoShape 163"/>
                    <p:cNvSpPr/>
                    <p:nvPr/>
                  </p:nvSpPr>
                  <p:spPr>
                    <a:xfrm>
                      <a:off x="6477120" y="6451560"/>
                      <a:ext cx="2619360" cy="35100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2" name="Group 164"/>
                    <p:cNvGrpSpPr/>
                    <p:nvPr/>
                  </p:nvGrpSpPr>
                  <p:grpSpPr>
                    <a:xfrm>
                      <a:off x="6472440" y="6450120"/>
                      <a:ext cx="2671560" cy="384120"/>
                      <a:chOff x="6472440" y="6450120"/>
                      <a:chExt cx="2671560" cy="384120"/>
                    </a:xfrm>
                  </p:grpSpPr>
                  <p:sp>
                    <p:nvSpPr>
                      <p:cNvPr id="283" name="AutoShape 165"/>
                      <p:cNvSpPr/>
                      <p:nvPr/>
                    </p:nvSpPr>
                    <p:spPr>
                      <a:xfrm>
                        <a:off x="6477120" y="6451560"/>
                        <a:ext cx="2612880" cy="344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4" name="Group 166"/>
                      <p:cNvGrpSpPr/>
                      <p:nvPr/>
                    </p:nvGrpSpPr>
                    <p:grpSpPr>
                      <a:xfrm>
                        <a:off x="6472440" y="6450120"/>
                        <a:ext cx="2671560" cy="384120"/>
                        <a:chOff x="6472440" y="6450120"/>
                        <a:chExt cx="2671560" cy="384120"/>
                      </a:xfrm>
                    </p:grpSpPr>
                    <p:sp>
                      <p:nvSpPr>
                        <p:cNvPr id="285" name="AutoShape 167"/>
                        <p:cNvSpPr/>
                        <p:nvPr/>
                      </p:nvSpPr>
                      <p:spPr>
                        <a:xfrm>
                          <a:off x="6477120" y="6451560"/>
                          <a:ext cx="2609640" cy="3398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6" name="Group 168"/>
                        <p:cNvGrpSpPr/>
                        <p:nvPr/>
                      </p:nvGrpSpPr>
                      <p:grpSpPr>
                        <a:xfrm>
                          <a:off x="6472440" y="6450120"/>
                          <a:ext cx="2671560" cy="384120"/>
                          <a:chOff x="6472440" y="6450120"/>
                          <a:chExt cx="2671560" cy="384120"/>
                        </a:xfrm>
                      </p:grpSpPr>
                      <p:sp>
                        <p:nvSpPr>
                          <p:cNvPr id="287" name="AutoShape 16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08200" cy="33804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88" name="Group 170"/>
                          <p:cNvGrpSpPr/>
                          <p:nvPr/>
                        </p:nvGrpSpPr>
                        <p:grpSpPr>
                          <a:xfrm>
                            <a:off x="6472440" y="6450120"/>
                            <a:ext cx="2671560" cy="384120"/>
                            <a:chOff x="6472440" y="6450120"/>
                            <a:chExt cx="2671560" cy="384120"/>
                          </a:xfrm>
                        </p:grpSpPr>
                        <p:sp>
                          <p:nvSpPr>
                            <p:cNvPr id="289" name="AutoShape 17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06400" cy="33804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0" name="AutoShape 172"/>
                            <p:cNvSpPr/>
                            <p:nvPr/>
                          </p:nvSpPr>
                          <p:spPr>
                            <a:xfrm>
                              <a:off x="6472440" y="645012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659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PRINCIPAIS CONCEITOS ADOTA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67800" y="1680840"/>
            <a:ext cx="776628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GESTÃO, GERENCIAMENTO 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MANEJO INTEGRADO 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SÓL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LOGÍSTICA REVER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e REJEI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547560" y="160020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547560" y="390384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6"/>
          <p:cNvSpPr/>
          <p:nvPr/>
        </p:nvSpPr>
        <p:spPr>
          <a:xfrm>
            <a:off x="547560" y="5162400"/>
            <a:ext cx="443160" cy="60984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64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ÍDUOS: descarte da produção e do consumo/sistema de limpeza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JEITOS: resíduos sólidos que não têm aproveitamento econômico por nenhum processo tecnológico disponível e acessí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228600" y="4181400"/>
            <a:ext cx="4276800" cy="107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838080" y="3191040"/>
            <a:ext cx="3057480" cy="847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3"/>
          <a:stretch/>
        </p:blipFill>
        <p:spPr>
          <a:xfrm>
            <a:off x="1600200" y="2133720"/>
            <a:ext cx="1685880" cy="10760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– GERENCIAMENTO – MANEJ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                                  DEFINE A POLÍTICA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ENCIAMENTO                   IMPLEMENTA A POLÍ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JO                   OPERACIONA A IMPLEMENTAÇÃ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3946680" y="2971800"/>
            <a:ext cx="79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 flipH="1">
            <a:off x="3870000" y="3809880"/>
            <a:ext cx="793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3413160" y="4800600"/>
            <a:ext cx="869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6437520" y="6451560"/>
            <a:ext cx="2692080" cy="384120"/>
            <a:chOff x="6437520" y="6451560"/>
            <a:chExt cx="2692080" cy="384120"/>
          </a:xfrm>
        </p:grpSpPr>
        <p:sp>
          <p:nvSpPr>
            <p:cNvPr id="306" name="AutoShape 11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7" name="Group 12"/>
            <p:cNvGrpSpPr/>
            <p:nvPr/>
          </p:nvGrpSpPr>
          <p:grpSpPr>
            <a:xfrm>
              <a:off x="6437520" y="6451560"/>
              <a:ext cx="2679120" cy="384120"/>
              <a:chOff x="6437520" y="6451560"/>
              <a:chExt cx="2679120" cy="384120"/>
            </a:xfrm>
          </p:grpSpPr>
          <p:sp>
            <p:nvSpPr>
              <p:cNvPr id="308" name="AutoShape 13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9" name="Group 14"/>
              <p:cNvGrpSpPr/>
              <p:nvPr/>
            </p:nvGrpSpPr>
            <p:grpSpPr>
              <a:xfrm>
                <a:off x="6437520" y="6451560"/>
                <a:ext cx="2671560" cy="384120"/>
                <a:chOff x="6437520" y="6451560"/>
                <a:chExt cx="2671560" cy="384120"/>
              </a:xfrm>
            </p:grpSpPr>
            <p:sp>
              <p:nvSpPr>
                <p:cNvPr id="310" name="AutoShape 15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Group 16"/>
                <p:cNvGrpSpPr/>
                <p:nvPr/>
              </p:nvGrpSpPr>
              <p:grpSpPr>
                <a:xfrm>
                  <a:off x="6437520" y="6451560"/>
                  <a:ext cx="2671560" cy="384120"/>
                  <a:chOff x="6437520" y="6451560"/>
                  <a:chExt cx="2671560" cy="384120"/>
                </a:xfrm>
              </p:grpSpPr>
              <p:sp>
                <p:nvSpPr>
                  <p:cNvPr id="312" name="AutoShape 17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Group 18"/>
                  <p:cNvGrpSpPr/>
                  <p:nvPr/>
                </p:nvGrpSpPr>
                <p:grpSpPr>
                  <a:xfrm>
                    <a:off x="6437520" y="6451560"/>
                    <a:ext cx="2671560" cy="384120"/>
                    <a:chOff x="6437520" y="6451560"/>
                    <a:chExt cx="2671560" cy="384120"/>
                  </a:xfrm>
                </p:grpSpPr>
                <p:sp>
                  <p:nvSpPr>
                    <p:cNvPr id="314" name="AutoShape 19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5" name="Group 20"/>
                    <p:cNvGrpSpPr/>
                    <p:nvPr/>
                  </p:nvGrpSpPr>
                  <p:grpSpPr>
                    <a:xfrm>
                      <a:off x="6437520" y="6451560"/>
                      <a:ext cx="2671560" cy="384120"/>
                      <a:chOff x="6437520" y="6451560"/>
                      <a:chExt cx="2671560" cy="384120"/>
                    </a:xfrm>
                  </p:grpSpPr>
                  <p:sp>
                    <p:nvSpPr>
                      <p:cNvPr id="316" name="AutoShape 21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7" name="Group 22"/>
                      <p:cNvGrpSpPr/>
                      <p:nvPr/>
                    </p:nvGrpSpPr>
                    <p:grpSpPr>
                      <a:xfrm>
                        <a:off x="6437520" y="6451560"/>
                        <a:ext cx="2671560" cy="384120"/>
                        <a:chOff x="6437520" y="6451560"/>
                        <a:chExt cx="2671560" cy="384120"/>
                      </a:xfrm>
                    </p:grpSpPr>
                    <p:sp>
                      <p:nvSpPr>
                        <p:cNvPr id="318" name="AutoShape 23"/>
                        <p:cNvSpPr/>
                        <p:nvPr/>
                      </p:nvSpPr>
                      <p:spPr>
                        <a:xfrm>
                          <a:off x="6477120" y="6451560"/>
                          <a:ext cx="2598480" cy="3290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19" name="Group 24"/>
                        <p:cNvGrpSpPr/>
                        <p:nvPr/>
                      </p:nvGrpSpPr>
                      <p:grpSpPr>
                        <a:xfrm>
                          <a:off x="6437520" y="6451560"/>
                          <a:ext cx="2671560" cy="384120"/>
                          <a:chOff x="6437520" y="6451560"/>
                          <a:chExt cx="2671560" cy="384120"/>
                        </a:xfrm>
                      </p:grpSpPr>
                      <p:sp>
                        <p:nvSpPr>
                          <p:cNvPr id="320" name="AutoShape 25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595240" cy="32580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21" name="Group 26"/>
                          <p:cNvGrpSpPr/>
                          <p:nvPr/>
                        </p:nvGrpSpPr>
                        <p:grpSpPr>
                          <a:xfrm>
                            <a:off x="6437520" y="6451560"/>
                            <a:ext cx="2671560" cy="384120"/>
                            <a:chOff x="6437520" y="6451560"/>
                            <a:chExt cx="2671560" cy="384120"/>
                          </a:xfrm>
                        </p:grpSpPr>
                        <p:sp>
                          <p:nvSpPr>
                            <p:cNvPr id="322" name="AutoShape 27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592000" cy="32436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3" name="AutoShape 28"/>
                            <p:cNvSpPr/>
                            <p:nvPr/>
                          </p:nvSpPr>
                          <p:spPr>
                            <a:xfrm>
                              <a:off x="6437520" y="645156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26828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EGISLAÇÃO BRASIL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cisos VI e IX o art. 23, que estabelecem ser competência comum da União, os estados, o Distrito Federal e dos municípios proteger o meio ambiente e combater a poluição em qualquer das suas formas, bem como promover programas de construção de moradias e a melhoria do saneamento bás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Já os incisos I e V do art. 30 estabelecem como atribuição municipal legislar sobre assuntos de interesse local, especialmente quanto a organização dos seus serviços públicos, como é o caso a limpeza urba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533520" y="1590840"/>
            <a:ext cx="2066760" cy="16858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STÃO INTEGRADA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I-R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DEFINE A 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ados, Distrito Federal e Municíp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ende as ações referentes a tomada de decisões políticas e estratégicas, quanto aos aspectos institucionais, operacionais, financeiros, sociais e ambientais relacionados aos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28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30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1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32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34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5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36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7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38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9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40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41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42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43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44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5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380880" y="1590840"/>
            <a:ext cx="2448000" cy="1076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RENCIAMENTO E PLANO DE GERENCIAMENT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IRS            IMPLEMENTA A POLÍ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trito Federal, Municípios e demais g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mada de decisões estratégicas quando do desenvolvimento e implementação das ações definidas no Plano de Gestão Integrada de Resíduos Sóli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50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52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54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56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7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58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9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60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1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62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3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64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65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66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7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2286000" y="1590840"/>
            <a:ext cx="4048200" cy="10000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10760"/>
            <a:ext cx="7770960" cy="12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LANO DE MANEJ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7280" cy="47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MI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Times New Roman"/>
              </a:rPr>
              <a:t>Disponibilizado para consulta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 A IMPLEMEN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odos os ge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lização das etapas de segregação, coleta, manipulação, acondicionamento, transporte, armazenamento, transbordo, triagem e tratamento, comercialização, logística reversa e disposição final dos rejeitos, observadas as diretrizes estabelecidas no Plano de Gerenciamento Integrado de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72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74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5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76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78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9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80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1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82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3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84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85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86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87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88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9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-675000"/>
            <a:ext cx="8305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392" name="AutoShape 4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Group 5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394" name="AutoShape 6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" name="Group 7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396" name="AutoShape 8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Group 9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398" name="AutoShape 10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Group 11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400" name="AutoShape 12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1" name="Group 13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402" name="AutoShape 14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404" name="Text Box 17"/>
          <p:cNvSpPr/>
          <p:nvPr/>
        </p:nvSpPr>
        <p:spPr>
          <a:xfrm>
            <a:off x="324000" y="1268280"/>
            <a:ext cx="86072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junto de ações, procedimentos e meios, destinados a facilitar a coleta e a restituição dos resíduos sólidos ao centro que os produziu, para o seu reaproveitamento na forma de novas matérias-primas em seu processo produtivo ou de terceiros, seu tratamento, e a disposição final adequada dos reje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250920" y="393084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Logística Reversa agrega valor na cadeia com o objetivo de tornar possível o retorno dos bens ou de seus materiais ao ciclo produtivo e posteriormente no ponto de consumo novamente. Agrega valor econômico, social, ecológico, legal e de localização ao planejar os bolsões reversos e informações de como operacionalizar os mesm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ANAIS DE DISTRIBUIÇÃO DIRETOS E REVERS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038480" y="205740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 Virg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4419720" y="2514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4038480" y="2819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abric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419720" y="3124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038480" y="3352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4419720" y="3657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038480" y="3962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038480" y="4495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4419720" y="4267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2286000" y="5105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2438280" y="52578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2590920" y="5410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1828800" y="5181480"/>
            <a:ext cx="29718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3886200" y="5791320"/>
            <a:ext cx="38098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CONSU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AutoShape 17"/>
          <p:cNvSpPr/>
          <p:nvPr/>
        </p:nvSpPr>
        <p:spPr>
          <a:xfrm>
            <a:off x="4419720" y="48769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4800600" y="5410080"/>
            <a:ext cx="685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6172200" y="5181480"/>
            <a:ext cx="10666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1981080" y="4419720"/>
            <a:ext cx="106704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5867280" y="2971800"/>
            <a:ext cx="205740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uso  / Desmanche/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ciclagem Industr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6095880" y="3809880"/>
            <a:ext cx="12956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6172200" y="4495680"/>
            <a:ext cx="106668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 Rever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1981080" y="358128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1981080" y="281952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leção / Dest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AutoShape 26"/>
          <p:cNvSpPr/>
          <p:nvPr/>
        </p:nvSpPr>
        <p:spPr>
          <a:xfrm>
            <a:off x="6629400" y="548640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27"/>
          <p:cNvSpPr/>
          <p:nvPr/>
        </p:nvSpPr>
        <p:spPr>
          <a:xfrm>
            <a:off x="6629400" y="4952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28"/>
          <p:cNvSpPr/>
          <p:nvPr/>
        </p:nvSpPr>
        <p:spPr>
          <a:xfrm>
            <a:off x="6629400" y="41911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AutoShape 29"/>
          <p:cNvSpPr/>
          <p:nvPr/>
        </p:nvSpPr>
        <p:spPr>
          <a:xfrm>
            <a:off x="2362320" y="327672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utoShape 30"/>
          <p:cNvSpPr/>
          <p:nvPr/>
        </p:nvSpPr>
        <p:spPr>
          <a:xfrm>
            <a:off x="2362320" y="40384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31"/>
          <p:cNvSpPr/>
          <p:nvPr/>
        </p:nvSpPr>
        <p:spPr>
          <a:xfrm>
            <a:off x="2362320" y="47242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32"/>
          <p:cNvSpPr/>
          <p:nvPr/>
        </p:nvSpPr>
        <p:spPr>
          <a:xfrm>
            <a:off x="3200400" y="289548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33"/>
          <p:cNvSpPr/>
          <p:nvPr/>
        </p:nvSpPr>
        <p:spPr>
          <a:xfrm>
            <a:off x="3124080" y="2971800"/>
            <a:ext cx="91440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34"/>
          <p:cNvSpPr/>
          <p:nvPr/>
        </p:nvSpPr>
        <p:spPr>
          <a:xfrm>
            <a:off x="5715000" y="2057400"/>
            <a:ext cx="129528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cundár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35"/>
          <p:cNvSpPr/>
          <p:nvPr/>
        </p:nvSpPr>
        <p:spPr>
          <a:xfrm>
            <a:off x="1981080" y="198108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36"/>
          <p:cNvSpPr/>
          <p:nvPr/>
        </p:nvSpPr>
        <p:spPr>
          <a:xfrm>
            <a:off x="2362320" y="251460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37"/>
          <p:cNvSpPr/>
          <p:nvPr/>
        </p:nvSpPr>
        <p:spPr>
          <a:xfrm>
            <a:off x="6095880" y="2666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38"/>
          <p:cNvSpPr/>
          <p:nvPr/>
        </p:nvSpPr>
        <p:spPr>
          <a:xfrm flipH="1">
            <a:off x="5181480" y="2666880"/>
            <a:ext cx="6098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9"/>
          <p:cNvSpPr/>
          <p:nvPr/>
        </p:nvSpPr>
        <p:spPr>
          <a:xfrm>
            <a:off x="8305920" y="2971800"/>
            <a:ext cx="304560" cy="3205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- CONSUM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40"/>
          <p:cNvSpPr/>
          <p:nvPr/>
        </p:nvSpPr>
        <p:spPr>
          <a:xfrm>
            <a:off x="1066680" y="2743200"/>
            <a:ext cx="381240" cy="2935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41"/>
          <p:cNvSpPr/>
          <p:nvPr/>
        </p:nvSpPr>
        <p:spPr>
          <a:xfrm>
            <a:off x="1523880" y="601992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não 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1523880" y="5638680"/>
            <a:ext cx="121932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43"/>
          <p:cNvSpPr/>
          <p:nvPr/>
        </p:nvSpPr>
        <p:spPr>
          <a:xfrm flipH="1" flipV="1">
            <a:off x="2819160" y="5714640"/>
            <a:ext cx="106668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44"/>
          <p:cNvSpPr/>
          <p:nvPr/>
        </p:nvSpPr>
        <p:spPr>
          <a:xfrm flipH="1">
            <a:off x="2742840" y="5943600"/>
            <a:ext cx="11430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7162920" y="2133720"/>
            <a:ext cx="121896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utoShape 46"/>
          <p:cNvSpPr/>
          <p:nvPr/>
        </p:nvSpPr>
        <p:spPr>
          <a:xfrm>
            <a:off x="7391520" y="26668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47"/>
          <p:cNvSpPr/>
          <p:nvPr/>
        </p:nvSpPr>
        <p:spPr>
          <a:xfrm>
            <a:off x="6629400" y="35053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>
            <a:off x="3048120" y="320040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E  BEN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1295280" y="21337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457200" y="1905120"/>
            <a:ext cx="411480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S DE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RROS DE EXPED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CONSIG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XCESSO DE ESTO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GIRO BAIX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SAZ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FEITUO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ALL DE PROD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VALIDADE EXPIR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NIFICADOS TRÂNS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4724280" y="1905120"/>
            <a:ext cx="441972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PRIM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NSE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OAÇÃO EM CAR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ICLAG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SPOSIÇÃ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OS BENS PÓS - CONSUM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609480" y="2133720"/>
            <a:ext cx="3886200" cy="3083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 DO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UTILIDADE AO PRIMEIRO UTILIZ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ALV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VIDA ÚTI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SÍDUOS INDUST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648320" y="2149560"/>
            <a:ext cx="3733560" cy="3607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CICL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TERRO SANIT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CIN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VISTAS E JORNA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IVR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TORNO DO VAREJ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MBALAGENS RETORNÁVE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-CONSUM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EILÕE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UTOMÓVEIS ; ELETRODOMÉS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MPUTADORES E PERIFÉ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ATERIAS DE AUTOMÓ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MBALAGENS DESCART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SÍDUO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NOVO CONSUMIDOR E A  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Oval 3"/>
          <p:cNvSpPr/>
          <p:nvPr/>
        </p:nvSpPr>
        <p:spPr>
          <a:xfrm>
            <a:off x="457200" y="2743200"/>
            <a:ext cx="167652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R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Oval 4"/>
          <p:cNvSpPr/>
          <p:nvPr/>
        </p:nvSpPr>
        <p:spPr>
          <a:xfrm>
            <a:off x="2286000" y="2819520"/>
            <a:ext cx="144792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Oval 5"/>
          <p:cNvSpPr/>
          <p:nvPr/>
        </p:nvSpPr>
        <p:spPr>
          <a:xfrm>
            <a:off x="1600200" y="3200400"/>
            <a:ext cx="137628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380988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Oval 7"/>
          <p:cNvSpPr/>
          <p:nvPr/>
        </p:nvSpPr>
        <p:spPr>
          <a:xfrm>
            <a:off x="4648320" y="2895480"/>
            <a:ext cx="152388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UZI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Oval 8"/>
          <p:cNvSpPr/>
          <p:nvPr/>
        </p:nvSpPr>
        <p:spPr>
          <a:xfrm>
            <a:off x="6477120" y="2895480"/>
            <a:ext cx="1447560" cy="3812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Oval 9"/>
          <p:cNvSpPr/>
          <p:nvPr/>
        </p:nvSpPr>
        <p:spPr>
          <a:xfrm>
            <a:off x="5486400" y="3276720"/>
            <a:ext cx="1752480" cy="380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CIC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AutoShape 10"/>
          <p:cNvSpPr/>
          <p:nvPr/>
        </p:nvSpPr>
        <p:spPr>
          <a:xfrm rot="11800200">
            <a:off x="7010280" y="3657240"/>
            <a:ext cx="7668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AutoShape 11"/>
          <p:cNvSpPr/>
          <p:nvPr/>
        </p:nvSpPr>
        <p:spPr>
          <a:xfrm rot="10759800">
            <a:off x="4419000" y="4419000"/>
            <a:ext cx="608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2590920" y="5257800"/>
            <a:ext cx="182880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OVERNOS 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CIE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Oval 13"/>
          <p:cNvSpPr/>
          <p:nvPr/>
        </p:nvSpPr>
        <p:spPr>
          <a:xfrm>
            <a:off x="152280" y="5257800"/>
            <a:ext cx="198144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DE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2133720" y="53341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295280" y="2057400"/>
            <a:ext cx="22860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O CONSU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5181480" y="2057400"/>
            <a:ext cx="243864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 AMBIENTAL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5562720" y="4572000"/>
            <a:ext cx="2286000" cy="703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OVO CLIENTE E 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1447920" y="4495680"/>
            <a:ext cx="20574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EGISLAÇÕES AMBIENT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70000" y="17136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STÃO INTEGRADA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cesso que compreende as ações referentes à tomada de decisões políticas e estratégicas quanto aos aspectos institucionais, operacionais, financeiros, sociais e ambientais relacionados aos resíduos sólidos, capaz de orientar a organização do se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Nacional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que determina através da política nacional de resíduos sólidos, os planos, as estratégias setoriais, os aspectos legislativos, e as regulações ambientais e institucion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Estadu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é a que determina através de sua política estadual o conjunto de normas e procedimentos sobre o manejo integrado e a coloca para que os municípios tenham uma Lei que estabeleça normas e metas de gest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Municip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uida mais dos aspectos de execução com qualidade o modelo desenvolvido, pelo manejo integrado dos resíduos, para um município ou para um conjunto de municípios, mediante a aprovação dos elementos de decisão política, administrativos, socioculturais e financei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REGULAMENTAÇÕES </a:t>
            </a: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AMBIENTA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4000" y="2247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SA - RESPONSABILIZA GOVERNOS LOC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UROPA - RESPONSABILIZAÇÃO DA CADEIA DI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APÃO - POUCAS LEIS E CONSCIÊNCIA MA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RASIL: RESPONSABILIDADE PRODUT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DUTOS PERIGOSOS: LEI EXPRE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MAIS : LEI EM CURSO NA CÂMAR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ESTRATÉGIAS DE IMPLANTAÇÃO DA LOG.REV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TRATÉGIA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PETITIVIDADE E RESPONSABILIDADE EMPRESARI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UNÇÕES  ESPECÍFIC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DEQUAÇÃO DO MIX DE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JETO PARA LOGÍSTICA REVERSA / EMBALAGEN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CESSOS  INDUSTRIAIS / ANÁLISE DO CICLO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A REDE REVE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ÍVEIS  DE INTEG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S / CONSOLIDAÇÃO / MERCADOS / INFORM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ARCERIAS / TERCEIRIZAÇÕES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OS ASPECTOS FISC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LASSIFICAÇÕES / PROPRIE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559320" y="2403360"/>
            <a:ext cx="260280" cy="451080"/>
            <a:chOff x="3559320" y="2403360"/>
            <a:chExt cx="260280" cy="451080"/>
          </a:xfrm>
        </p:grpSpPr>
        <p:sp>
          <p:nvSpPr>
            <p:cNvPr id="486" name="AutoShape 3"/>
            <p:cNvSpPr/>
            <p:nvPr/>
          </p:nvSpPr>
          <p:spPr>
            <a:xfrm>
              <a:off x="3565440" y="2403360"/>
              <a:ext cx="254160" cy="451080"/>
            </a:xfrm>
            <a:custGeom>
              <a:avLst/>
              <a:gdLst>
                <a:gd name="textAreaLeft" fmla="*/ 360 w 254160"/>
                <a:gd name="textAreaRight" fmla="*/ 253800 w 254160"/>
                <a:gd name="textAreaTop" fmla="*/ 360 h 451080"/>
                <a:gd name="textAreaBottom" fmla="*/ 450720 h 451080"/>
              </a:gdLst>
              <a:ahLst/>
              <a:rect l="textAreaLeft" t="textAreaTop" r="textAreaRight" b="textAreaBottom"/>
              <a:pathLst>
                <a:path w="21600" h="38312">
                  <a:moveTo>
                    <a:pt x="135" y="0"/>
                  </a:moveTo>
                  <a:arcTo wR="135" hR="135" stAng="16200000" swAng="-5400000"/>
                  <a:lnTo>
                    <a:pt x="0" y="38177"/>
                  </a:lnTo>
                  <a:arcTo wR="135" hR="135" stAng="10800000" swAng="-5400000"/>
                  <a:lnTo>
                    <a:pt x="21465" y="38312"/>
                  </a:lnTo>
                  <a:arcTo wR="135" hR="135" stAng="5400000" swAng="-5400000"/>
                  <a:lnTo>
                    <a:pt x="21600" y="135"/>
                  </a:lnTo>
                  <a:arcTo wR="135" hR="13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3559320" y="2403360"/>
              <a:ext cx="257760" cy="447840"/>
              <a:chOff x="3559320" y="2403360"/>
              <a:chExt cx="257760" cy="447840"/>
            </a:xfrm>
          </p:grpSpPr>
          <p:sp>
            <p:nvSpPr>
              <p:cNvPr id="488" name="AutoShape 5"/>
              <p:cNvSpPr/>
              <p:nvPr/>
            </p:nvSpPr>
            <p:spPr>
              <a:xfrm>
                <a:off x="3565440" y="2403360"/>
                <a:ext cx="249480" cy="447840"/>
              </a:xfrm>
              <a:custGeom>
                <a:avLst/>
                <a:gdLst>
                  <a:gd name="textAreaLeft" fmla="*/ 360 w 249480"/>
                  <a:gd name="textAreaRight" fmla="*/ 249120 w 249480"/>
                  <a:gd name="textAreaTop" fmla="*/ 360 h 447840"/>
                  <a:gd name="textAreaBottom" fmla="*/ 447480 h 447840"/>
                </a:gdLst>
                <a:ahLst/>
                <a:rect l="textAreaLeft" t="textAreaTop" r="textAreaRight" b="textAreaBottom"/>
                <a:pathLst>
                  <a:path w="21600" h="38749">
                    <a:moveTo>
                      <a:pt x="136" y="0"/>
                    </a:moveTo>
                    <a:arcTo wR="136" hR="136" stAng="16200000" swAng="-5400000"/>
                    <a:lnTo>
                      <a:pt x="0" y="38613"/>
                    </a:lnTo>
                    <a:arcTo wR="136" hR="136" stAng="10800000" swAng="-5400000"/>
                    <a:lnTo>
                      <a:pt x="21464" y="38749"/>
                    </a:lnTo>
                    <a:arcTo wR="136" hR="136" stAng="5400000" swAng="-5400000"/>
                    <a:lnTo>
                      <a:pt x="21600" y="136"/>
                    </a:lnTo>
                    <a:arcTo wR="136" hR="13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9" name="Group 6"/>
              <p:cNvGrpSpPr/>
              <p:nvPr/>
            </p:nvGrpSpPr>
            <p:grpSpPr>
              <a:xfrm>
                <a:off x="3559320" y="2403360"/>
                <a:ext cx="257760" cy="444600"/>
                <a:chOff x="3559320" y="2403360"/>
                <a:chExt cx="257760" cy="444600"/>
              </a:xfrm>
            </p:grpSpPr>
            <p:sp>
              <p:nvSpPr>
                <p:cNvPr id="490" name="AutoShape 7"/>
                <p:cNvSpPr/>
                <p:nvPr/>
              </p:nvSpPr>
              <p:spPr>
                <a:xfrm>
                  <a:off x="3565440" y="2403360"/>
                  <a:ext cx="246600" cy="444600"/>
                </a:xfrm>
                <a:custGeom>
                  <a:avLst/>
                  <a:gdLst>
                    <a:gd name="textAreaLeft" fmla="*/ 360 w 246600"/>
                    <a:gd name="textAreaRight" fmla="*/ 246240 w 246600"/>
                    <a:gd name="textAreaTop" fmla="*/ 360 h 444600"/>
                    <a:gd name="textAreaBottom" fmla="*/ 444240 h 444600"/>
                  </a:gdLst>
                  <a:ahLst/>
                  <a:rect l="textAreaLeft" t="textAreaTop" r="textAreaRight" b="textAreaBottom"/>
                  <a:pathLst>
                    <a:path w="21600" h="38918">
                      <a:moveTo>
                        <a:pt x="136" y="0"/>
                      </a:moveTo>
                      <a:arcTo wR="136" hR="136" stAng="16200000" swAng="-5400000"/>
                      <a:lnTo>
                        <a:pt x="0" y="38782"/>
                      </a:lnTo>
                      <a:arcTo wR="136" hR="136" stAng="10800000" swAng="-5400000"/>
                      <a:lnTo>
                        <a:pt x="21464" y="38918"/>
                      </a:lnTo>
                      <a:arcTo wR="136" hR="136" stAng="5400000" swAng="-5400000"/>
                      <a:lnTo>
                        <a:pt x="21600" y="136"/>
                      </a:lnTo>
                      <a:arcTo wR="136" hR="13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1" name="Group 8"/>
                <p:cNvGrpSpPr/>
                <p:nvPr/>
              </p:nvGrpSpPr>
              <p:grpSpPr>
                <a:xfrm>
                  <a:off x="3559320" y="2403360"/>
                  <a:ext cx="257760" cy="442080"/>
                  <a:chOff x="3559320" y="2403360"/>
                  <a:chExt cx="257760" cy="442080"/>
                </a:xfrm>
              </p:grpSpPr>
              <p:sp>
                <p:nvSpPr>
                  <p:cNvPr id="492" name="AutoShape 9"/>
                  <p:cNvSpPr/>
                  <p:nvPr/>
                </p:nvSpPr>
                <p:spPr>
                  <a:xfrm>
                    <a:off x="3565440" y="2403360"/>
                    <a:ext cx="245160" cy="441360"/>
                  </a:xfrm>
                  <a:custGeom>
                    <a:avLst/>
                    <a:gdLst>
                      <a:gd name="textAreaLeft" fmla="*/ 360 w 245160"/>
                      <a:gd name="textAreaRight" fmla="*/ 244800 w 245160"/>
                      <a:gd name="textAreaTop" fmla="*/ 360 h 441360"/>
                      <a:gd name="textAreaBottom" fmla="*/ 441000 h 441360"/>
                    </a:gdLst>
                    <a:ahLst/>
                    <a:rect l="textAreaLeft" t="textAreaTop" r="textAreaRight" b="textAreaBottom"/>
                    <a:pathLst>
                      <a:path w="21600" h="38861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8725"/>
                        </a:lnTo>
                        <a:arcTo wR="136" hR="136" stAng="10800000" swAng="-5400000"/>
                        <a:lnTo>
                          <a:pt x="21464" y="38861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AutoShape 10"/>
                  <p:cNvSpPr/>
                  <p:nvPr/>
                </p:nvSpPr>
                <p:spPr>
                  <a:xfrm>
                    <a:off x="3559320" y="2403360"/>
                    <a:ext cx="257760" cy="442080"/>
                  </a:xfrm>
                  <a:custGeom>
                    <a:avLst/>
                    <a:gdLst>
                      <a:gd name="textAreaLeft" fmla="*/ 360 w 257760"/>
                      <a:gd name="textAreaRight" fmla="*/ 257400 w 257760"/>
                      <a:gd name="textAreaTop" fmla="*/ 360 h 442080"/>
                      <a:gd name="textAreaBottom" fmla="*/ 441720 h 442080"/>
                    </a:gdLst>
                    <a:ahLst/>
                    <a:rect l="textAreaLeft" t="textAreaTop" r="textAreaRight" b="textAreaBottom"/>
                    <a:pathLst>
                      <a:path w="21600" h="37024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6888"/>
                        </a:lnTo>
                        <a:arcTo wR="136" hR="136" stAng="10800000" swAng="-5400000"/>
                        <a:lnTo>
                          <a:pt x="21464" y="37024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494" name="Picture 11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47712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2308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20360" y="2016000"/>
            <a:ext cx="77230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-27540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ações para a garantia do fluxo de retorno dos resíduos sólidos gerados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a própria cadeia produtiva do gerador; ou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cadeias produtivas de outros geradore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duzir a poluição e o desperdício de materiais, associados à geração de resíduos sól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rcionar maior incentivo à substituição dos insumos por outros que não degradem o meio ambien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684360" y="1052640"/>
            <a:ext cx="7723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INSTRUMENTO DE DESENVOLVIMENTO ECONÔMICO, AMBIENTAL E SOC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440" y="448920"/>
            <a:ext cx="7940520" cy="70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mpatibilizar interesses conflitantes entre os agentes econômicos, ambientais, sociais, culturais e políticos que atuam nos municípi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o alinhamento entre os processos de gestão empresarial e mercadológica com os de gestão ambiental, com o objetivo de desenvolver  estratégias sustentávei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stimular a produção e o consumo de produtos derivados de materiais reciclados  e ambientalmente corret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iciar que  as atividades produtivas alcancem marco de eficiência e sustentabilidad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440" y="228240"/>
            <a:ext cx="3808440" cy="65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a implement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evenir a geração dos resíduos sóli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uzir os resíduos sólidos na sua orig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utilizar os materiais, maximizando o nível de rotação do sistema revers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r sistemas de recuperação dos resíduos sólidos,  na forma de novas matérias-primas,  novos  produtos ou em outros ciclos produ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46160" y="609120"/>
            <a:ext cx="4116600" cy="57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ojetos consorciado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mentar e regular o mercado de resíduos sólidos sujeitos à reutilização e tratament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centivar o crescimento deste mercad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abilizar a infra-estrutura necessária para a coleta, tratamento e comercialização  dos resíduos sólidos na forma de novas matérias-prim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502" name="AutoShape 5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3" name="Group 6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504" name="AutoShape 7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5" name="Group 8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506" name="AutoShape 9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Group 10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508" name="AutoShape 11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9" name="Group 12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510" name="AutoShape 13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1" name="Group 14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512" name="AutoShape 15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13" name="Group 16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514" name="AutoShape 17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15" name="Group 18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516" name="AutoShape 1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17" name="Group 20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518" name="AutoShape 2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9" name="AutoShape 22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520" name="Freeform 23"/>
          <p:cNvSpPr/>
          <p:nvPr/>
        </p:nvSpPr>
        <p:spPr>
          <a:xfrm>
            <a:off x="4495680" y="53352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reeform 24"/>
          <p:cNvSpPr/>
          <p:nvPr/>
        </p:nvSpPr>
        <p:spPr>
          <a:xfrm>
            <a:off x="395280" y="6094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1760" y="4896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rigações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28600" y="609480"/>
            <a:ext cx="8762760" cy="6267600"/>
            <a:chOff x="228600" y="609480"/>
            <a:chExt cx="8762760" cy="6267600"/>
          </a:xfrm>
        </p:grpSpPr>
        <p:grpSp>
          <p:nvGrpSpPr>
            <p:cNvPr id="524" name="Group 4"/>
            <p:cNvGrpSpPr/>
            <p:nvPr/>
          </p:nvGrpSpPr>
          <p:grpSpPr>
            <a:xfrm>
              <a:off x="228600" y="5165280"/>
              <a:ext cx="8748000" cy="1711800"/>
              <a:chOff x="228600" y="5165280"/>
              <a:chExt cx="8748000" cy="1711800"/>
            </a:xfrm>
          </p:grpSpPr>
          <p:sp>
            <p:nvSpPr>
              <p:cNvPr id="525" name="AutoShape 5"/>
              <p:cNvSpPr/>
              <p:nvPr/>
            </p:nvSpPr>
            <p:spPr>
              <a:xfrm>
                <a:off x="228600" y="5165280"/>
                <a:ext cx="8748000" cy="1679400"/>
              </a:xfrm>
              <a:prstGeom prst="roundRect">
                <a:avLst>
                  <a:gd name="adj" fmla="val 10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Text Box 6"/>
              <p:cNvSpPr/>
              <p:nvPr/>
            </p:nvSpPr>
            <p:spPr>
              <a:xfrm>
                <a:off x="228600" y="5165280"/>
                <a:ext cx="8748000" cy="1711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d) garantir que estejam impressas, em local visível e destacado, nos materiais que acondicionam os produtos de sua responsabilidade, informações sobre as possibilidades de reutilização e tratamento, advertindo o consumidor quanto aos riscos ambientais resultantes de seu abandono no solo, em cursos d'água ou qualquer outro local que não o previsto em lei, ou autorizado pelo órgão ambiental competente, bem como, divulgar por meio de campanhas publicitárias, programas  e mensagens educativas de combate ao descarte indevido e inadequado no meio ambiente dos resíduos sólidos dos produtos de sua responsabilidade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AutoShape 7"/>
            <p:cNvSpPr/>
            <p:nvPr/>
          </p:nvSpPr>
          <p:spPr>
            <a:xfrm>
              <a:off x="6066720" y="3945960"/>
              <a:ext cx="29228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AutoShape 8"/>
            <p:cNvSpPr/>
            <p:nvPr/>
          </p:nvSpPr>
          <p:spPr>
            <a:xfrm>
              <a:off x="3151800" y="3945960"/>
              <a:ext cx="29246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9" name="Group 9"/>
            <p:cNvGrpSpPr/>
            <p:nvPr/>
          </p:nvGrpSpPr>
          <p:grpSpPr>
            <a:xfrm>
              <a:off x="228600" y="3945960"/>
              <a:ext cx="2912760" cy="1211400"/>
              <a:chOff x="228600" y="3945960"/>
              <a:chExt cx="2912760" cy="1211400"/>
            </a:xfrm>
          </p:grpSpPr>
          <p:sp>
            <p:nvSpPr>
              <p:cNvPr id="530" name="AutoShape 10"/>
              <p:cNvSpPr/>
              <p:nvPr/>
            </p:nvSpPr>
            <p:spPr>
              <a:xfrm>
                <a:off x="228600" y="3945960"/>
                <a:ext cx="2912760" cy="1211400"/>
              </a:xfrm>
              <a:prstGeom prst="roundRect">
                <a:avLst>
                  <a:gd name="adj" fmla="val 14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Text Box 11"/>
              <p:cNvSpPr/>
              <p:nvPr/>
            </p:nvSpPr>
            <p:spPr>
              <a:xfrm>
                <a:off x="228600" y="394596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) articular com sua rede de comercialização a implementação da estrutura necessária para garantir o fluxo reverso dos resíduos sólidos gerados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;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2" name="AutoShape 12"/>
            <p:cNvSpPr/>
            <p:nvPr/>
          </p:nvSpPr>
          <p:spPr>
            <a:xfrm>
              <a:off x="6066720" y="2643480"/>
              <a:ext cx="2922840" cy="1308240"/>
            </a:xfrm>
            <a:prstGeom prst="roundRect">
              <a:avLst>
                <a:gd name="adj" fmla="val 13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3" name="Group 13"/>
            <p:cNvGrpSpPr/>
            <p:nvPr/>
          </p:nvGrpSpPr>
          <p:grpSpPr>
            <a:xfrm>
              <a:off x="3151800" y="2643480"/>
              <a:ext cx="2910960" cy="1295280"/>
              <a:chOff x="3151800" y="2643480"/>
              <a:chExt cx="2910960" cy="1295280"/>
            </a:xfrm>
          </p:grpSpPr>
          <p:sp>
            <p:nvSpPr>
              <p:cNvPr id="534" name="AutoShape 14"/>
              <p:cNvSpPr/>
              <p:nvPr/>
            </p:nvSpPr>
            <p:spPr>
              <a:xfrm>
                <a:off x="3151800" y="2643480"/>
                <a:ext cx="29109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Text Box 15"/>
              <p:cNvSpPr/>
              <p:nvPr/>
            </p:nvSpPr>
            <p:spPr>
              <a:xfrm>
                <a:off x="3151800" y="2643480"/>
                <a:ext cx="29109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 garantir o recebimento,  criar e manter postos destinados à coleta dos resíduos sólidos do sistema reverso,  e informar ao consumidor a localização desses postos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16"/>
            <p:cNvGrpSpPr/>
            <p:nvPr/>
          </p:nvGrpSpPr>
          <p:grpSpPr>
            <a:xfrm>
              <a:off x="228600" y="2643480"/>
              <a:ext cx="2912760" cy="1295280"/>
              <a:chOff x="228600" y="2643480"/>
              <a:chExt cx="2912760" cy="1295280"/>
            </a:xfrm>
          </p:grpSpPr>
          <p:sp>
            <p:nvSpPr>
              <p:cNvPr id="537" name="AutoShape 17"/>
              <p:cNvSpPr/>
              <p:nvPr/>
            </p:nvSpPr>
            <p:spPr>
              <a:xfrm>
                <a:off x="228600" y="2643480"/>
                <a:ext cx="29127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Text Box 18"/>
              <p:cNvSpPr/>
              <p:nvPr/>
            </p:nvSpPr>
            <p:spPr>
              <a:xfrm>
                <a:off x="228600" y="264348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coletar os resíduos sólidos e dar disposição final ambientalmente adequada aos rejeitos, sob pena de  responder civil e criminalmente nos termos da legislação ambiental;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19"/>
            <p:cNvGrpSpPr/>
            <p:nvPr/>
          </p:nvGrpSpPr>
          <p:grpSpPr>
            <a:xfrm>
              <a:off x="6066720" y="1204560"/>
              <a:ext cx="2910960" cy="1480680"/>
              <a:chOff x="6066720" y="1204560"/>
              <a:chExt cx="2910960" cy="1480680"/>
            </a:xfrm>
          </p:grpSpPr>
          <p:sp>
            <p:nvSpPr>
              <p:cNvPr id="540" name="AutoShape 20"/>
              <p:cNvSpPr/>
              <p:nvPr/>
            </p:nvSpPr>
            <p:spPr>
              <a:xfrm>
                <a:off x="606672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Text Box 21"/>
              <p:cNvSpPr/>
              <p:nvPr/>
            </p:nvSpPr>
            <p:spPr>
              <a:xfrm>
                <a:off x="6066720" y="1204560"/>
                <a:ext cx="2910960" cy="148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após a utilização do produto, efetuar a entrega  dos resíduos sólidos reversos aos comerciantes e distribuidores, ou destiná-los aos postos de coleta especificados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22"/>
            <p:cNvGrpSpPr/>
            <p:nvPr/>
          </p:nvGrpSpPr>
          <p:grpSpPr>
            <a:xfrm>
              <a:off x="3151800" y="1204560"/>
              <a:ext cx="2910960" cy="1470240"/>
              <a:chOff x="3151800" y="1204560"/>
              <a:chExt cx="2910960" cy="1470240"/>
            </a:xfrm>
          </p:grpSpPr>
          <p:sp>
            <p:nvSpPr>
              <p:cNvPr id="543" name="AutoShape 23"/>
              <p:cNvSpPr/>
              <p:nvPr/>
            </p:nvSpPr>
            <p:spPr>
              <a:xfrm>
                <a:off x="315180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Text Box 24"/>
              <p:cNvSpPr/>
              <p:nvPr/>
            </p:nvSpPr>
            <p:spPr>
              <a:xfrm>
                <a:off x="3151800" y="1204560"/>
                <a:ext cx="2910960" cy="14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receber, acondicionar e armazenar temporariamente, de forma ambientalmente segura, os resíduos sólidos do sistema reverso;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25"/>
            <p:cNvGrpSpPr/>
            <p:nvPr/>
          </p:nvGrpSpPr>
          <p:grpSpPr>
            <a:xfrm>
              <a:off x="228600" y="1204560"/>
              <a:ext cx="2912760" cy="1427400"/>
              <a:chOff x="228600" y="1204560"/>
              <a:chExt cx="2912760" cy="1427400"/>
            </a:xfrm>
          </p:grpSpPr>
          <p:sp>
            <p:nvSpPr>
              <p:cNvPr id="546" name="AutoShape 26"/>
              <p:cNvSpPr/>
              <p:nvPr/>
            </p:nvSpPr>
            <p:spPr>
              <a:xfrm>
                <a:off x="228600" y="1204560"/>
                <a:ext cx="29127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Text Box 27"/>
              <p:cNvSpPr/>
              <p:nvPr/>
            </p:nvSpPr>
            <p:spPr>
              <a:xfrm>
                <a:off x="228600" y="1204560"/>
                <a:ext cx="2912760" cy="787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) adotar tecnologias de modo a absorver ou reaproveitar os resíduos sólidos reversos;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8"/>
            <p:cNvGrpSpPr/>
            <p:nvPr/>
          </p:nvGrpSpPr>
          <p:grpSpPr>
            <a:xfrm>
              <a:off x="6066720" y="609480"/>
              <a:ext cx="2907720" cy="578520"/>
              <a:chOff x="6066720" y="609480"/>
              <a:chExt cx="2907720" cy="578520"/>
            </a:xfrm>
          </p:grpSpPr>
          <p:sp>
            <p:nvSpPr>
              <p:cNvPr id="549" name="AutoShape 29"/>
              <p:cNvSpPr/>
              <p:nvPr/>
            </p:nvSpPr>
            <p:spPr>
              <a:xfrm>
                <a:off x="606672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Text Box 30"/>
              <p:cNvSpPr/>
              <p:nvPr/>
            </p:nvSpPr>
            <p:spPr>
              <a:xfrm>
                <a:off x="6066720" y="609480"/>
                <a:ext cx="29077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33440"/>
                    <a:tab algn="l" pos="882720"/>
                    <a:tab algn="l" pos="1332000"/>
                    <a:tab algn="l" pos="1781280"/>
                    <a:tab algn="l" pos="2230560"/>
                    <a:tab algn="l" pos="2679840"/>
                    <a:tab algn="l" pos="3129120"/>
                    <a:tab algn="l" pos="3578400"/>
                    <a:tab algn="l" pos="4027320"/>
                    <a:tab algn="l" pos="4476600"/>
                    <a:tab algn="l" pos="4925880"/>
                    <a:tab algn="l" pos="5389560"/>
                    <a:tab algn="l" pos="5824440"/>
                    <a:tab algn="l" pos="6273720"/>
                    <a:tab algn="l" pos="6723000"/>
                    <a:tab algn="l" pos="7172280"/>
                    <a:tab algn="l" pos="7621560"/>
                    <a:tab algn="l" pos="8070840"/>
                    <a:tab algn="l" pos="8520120"/>
                    <a:tab algn="l" pos="8969400"/>
                    <a:tab algn="l" pos="8970840"/>
                    <a:tab algn="l" pos="9420120"/>
                    <a:tab algn="l" pos="9869400"/>
                    <a:tab algn="l" pos="10321920"/>
                    <a:tab algn="l" pos="10779120"/>
                    <a:tab algn="l" pos="1078056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CONSUMIDORES: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31"/>
            <p:cNvGrpSpPr/>
            <p:nvPr/>
          </p:nvGrpSpPr>
          <p:grpSpPr>
            <a:xfrm>
              <a:off x="3151800" y="609480"/>
              <a:ext cx="2907720" cy="578520"/>
              <a:chOff x="3151800" y="609480"/>
              <a:chExt cx="2907720" cy="578520"/>
            </a:xfrm>
          </p:grpSpPr>
          <p:sp>
            <p:nvSpPr>
              <p:cNvPr id="552" name="AutoShape 32"/>
              <p:cNvSpPr/>
              <p:nvPr/>
            </p:nvSpPr>
            <p:spPr>
              <a:xfrm>
                <a:off x="315180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Text Box 33"/>
              <p:cNvSpPr/>
              <p:nvPr/>
            </p:nvSpPr>
            <p:spPr>
              <a:xfrm>
                <a:off x="3151800" y="609480"/>
                <a:ext cx="2907720" cy="440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REVENDEDORES, COMERCIANTES E DISTRIBUI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34"/>
            <p:cNvGrpSpPr/>
            <p:nvPr/>
          </p:nvGrpSpPr>
          <p:grpSpPr>
            <a:xfrm>
              <a:off x="228600" y="609480"/>
              <a:ext cx="2909520" cy="578520"/>
              <a:chOff x="228600" y="609480"/>
              <a:chExt cx="2909520" cy="578520"/>
            </a:xfrm>
          </p:grpSpPr>
          <p:sp>
            <p:nvSpPr>
              <p:cNvPr id="555" name="AutoShape 35"/>
              <p:cNvSpPr/>
              <p:nvPr/>
            </p:nvSpPr>
            <p:spPr>
              <a:xfrm>
                <a:off x="228600" y="609480"/>
                <a:ext cx="29095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Text Box 36"/>
              <p:cNvSpPr/>
              <p:nvPr/>
            </p:nvSpPr>
            <p:spPr>
              <a:xfrm>
                <a:off x="228600" y="609480"/>
                <a:ext cx="29095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FABRICANTES E IMPORTA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7" name="Line 37"/>
            <p:cNvSpPr/>
            <p:nvPr/>
          </p:nvSpPr>
          <p:spPr>
            <a:xfrm>
              <a:off x="228600" y="609480"/>
              <a:ext cx="876132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>
              <a:off x="228600" y="120456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39"/>
            <p:cNvSpPr/>
            <p:nvPr/>
          </p:nvSpPr>
          <p:spPr>
            <a:xfrm>
              <a:off x="228600" y="26434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40"/>
            <p:cNvSpPr/>
            <p:nvPr/>
          </p:nvSpPr>
          <p:spPr>
            <a:xfrm>
              <a:off x="228600" y="3945960"/>
              <a:ext cx="8761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228600" y="51652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>
              <a:off x="228600" y="6857640"/>
              <a:ext cx="8761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>
              <a:off x="228600" y="609480"/>
              <a:ext cx="180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315180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>
              <a:off x="606672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46"/>
            <p:cNvSpPr/>
            <p:nvPr/>
          </p:nvSpPr>
          <p:spPr>
            <a:xfrm>
              <a:off x="8989920" y="609480"/>
              <a:ext cx="144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09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CEDIMENTOS ESPECIAIS OU DIFERENCIAD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287360"/>
            <a:ext cx="777096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metodologia a ser empregada no manuseio dos resíduos sólidos especiais ou diferenciados, que por sua classificação e especificidades necessitem de procedimentos peculiares,  será objeto de regulação no Plano de Gerenciamento Integrado de Resíduos Sólidos  do Ente Público interess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70" name="AutoShape 5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1" name="Group 6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72" name="AutoShape 7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Group 8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74" name="AutoShape 9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Group 10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76" name="AutoShape 11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7" name="Group 12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78" name="AutoShape 13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9" name="Group 14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80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1" name="AutoShape 16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582" name="Freeform 17"/>
          <p:cNvSpPr/>
          <p:nvPr/>
        </p:nvSpPr>
        <p:spPr>
          <a:xfrm>
            <a:off x="587520" y="2728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20360" y="673200"/>
            <a:ext cx="77230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INSTRUMENTOS ECONÔMICOS E FINANCEIR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der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20 dias para propor alternativas de fomentos e incentivos creditícios, fiscais e financeiros para indústrias ou institui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ni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ruturar linhas de financiamento para atender iniciativas ambientai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stituições oficiais de créd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cilitar as operações de crédito e financiamento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7068960" y="6461280"/>
            <a:ext cx="2059200" cy="380880"/>
            <a:chOff x="7068960" y="6461280"/>
            <a:chExt cx="2059200" cy="380880"/>
          </a:xfrm>
        </p:grpSpPr>
        <p:sp>
          <p:nvSpPr>
            <p:cNvPr id="586" name="AutoShape 5"/>
            <p:cNvSpPr/>
            <p:nvPr/>
          </p:nvSpPr>
          <p:spPr>
            <a:xfrm>
              <a:off x="7068960" y="6461280"/>
              <a:ext cx="2059200" cy="38088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AutoShape 6"/>
            <p:cNvSpPr/>
            <p:nvPr/>
          </p:nvSpPr>
          <p:spPr>
            <a:xfrm>
              <a:off x="7070400" y="6461280"/>
              <a:ext cx="180720" cy="368280"/>
            </a:xfrm>
            <a:custGeom>
              <a:avLst/>
              <a:gdLst>
                <a:gd name="textAreaLeft" fmla="*/ 360 w 180720"/>
                <a:gd name="textAreaRight" fmla="*/ 180360 w 180720"/>
                <a:gd name="textAreaTop" fmla="*/ 360 h 368280"/>
                <a:gd name="textAreaBottom" fmla="*/ 367920 h 368280"/>
              </a:gdLst>
              <a:ahLst/>
              <a:rect l="textAreaLeft" t="textAreaTop" r="textAreaRight" b="textAreaBottom"/>
              <a:pathLst>
                <a:path w="21600" h="43973">
                  <a:moveTo>
                    <a:pt x="189" y="0"/>
                  </a:moveTo>
                  <a:arcTo wR="189" hR="189" stAng="16200000" swAng="-5400000"/>
                  <a:lnTo>
                    <a:pt x="0" y="43784"/>
                  </a:lnTo>
                  <a:arcTo wR="189" hR="189" stAng="10800000" swAng="-5400000"/>
                  <a:lnTo>
                    <a:pt x="21411" y="43973"/>
                  </a:lnTo>
                  <a:arcTo wR="189" hR="189" stAng="5400000" swAng="-5400000"/>
                  <a:lnTo>
                    <a:pt x="21600" y="189"/>
                  </a:lnTo>
                  <a:arcTo wR="189" hR="189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roup 7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89" name="AutoShape 8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91" name="AutoShape 10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Group 11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93" name="AutoShape 12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Group 13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95" name="AutoShape 14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6" name="Group 15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97" name="AutoShape 16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98" name="Group 17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99" name="AutoShape 18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0" name="AutoShape 19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01" name="Freeform 20"/>
          <p:cNvSpPr/>
          <p:nvPr/>
        </p:nvSpPr>
        <p:spPr>
          <a:xfrm>
            <a:off x="246240" y="614520"/>
            <a:ext cx="442800" cy="60948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15364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provação do PG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dição prévia para o recebimento de incentivo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líticas Estaduais de 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or condicionante para repasse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rioridade na concessão de benefícios financeiros e credití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ituições públicas e privadas que promovam ações complementares e consonantes com o Projeto de 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066680" y="457200"/>
            <a:ext cx="7102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FATORES CONDICION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70000" y="38088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RENCIAMENTO INTEGRADO 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compreende as atividades referentes à tomada de decisões estratégicas quanto aos aspectos da prestação, fiscalização, e do controle dos serviços públicos de manejo integrado dos resíduos sólidos nas suas diferentes etapas: segregação, acondicionamento, coleta, transporte, armazenamento, transferência, triagem, tratamento, reciclagem, comercialização, e destinação final dos resíduos sólidos urb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PENIDO (2000)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diz que o gerenciamento Integrado de RSU é, em síntese, o envolvimento de diferentes órgãos da administração pública e da sociedade civil com o propósito de realizar a limpeza urbana, a coleta, o tratamento e a disposição final do lixo. Elevando assim a qualidade de vida da população e promovendo o asseio da cidade, levando em consideração as características das fontes de produção, o volume e os tipos de resídu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70000" y="38088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ODELOS DE GESTÃO NA ATUA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) Modelo de Gestão Convenciona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acontece na maior parte das cidades brasileiras. Qualquer município que tenha incorporado aos seus serviços a prestação dos serviços de limpeza urbana, desenvolve um modelo de gestão próprio, ainda que de forma rudimentar, pois em seu modelo de desenvolvimento municipal ele desenvolve ações referenciais político-estratégicas, ações institucionais e legais, ações financeiras e ambientais. Não ocorre a participação da popul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b) Modelo de Gestão Participativ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em que o modelo de gestão passa pela discussão com os seus munícipes. Deve ser desenvolvido com ênfase na correlação da limpeza urbana com os demais sistemas de saneamento (abastecimento de água, a drenagem urbana, coleta e tratamento de águas residuárias e controle de vetores). Envolve a definição ações referenciais político-estratégicas, institucionais e legais, financeiras e ambientais, com a participação de todos os atores o sistema de limpeza, quer sejam formais (prefeituras, empresas, etc.), como os informais (catadores, carroceiros, carrinheiros, deposeiros, etc...)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835280" y="119700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03280" y="69228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57400" y="1844640"/>
            <a:ext cx="26654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nipul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condicion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476360" y="3141720"/>
            <a:ext cx="201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47640" y="544500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tin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14480" y="3975120"/>
            <a:ext cx="175860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erê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373560" y="3933720"/>
            <a:ext cx="194472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pa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orm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248436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484360" y="26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48436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90000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434808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900000" y="3429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 flipH="1">
            <a:off x="3492000" y="3429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2195640" y="4508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 flipH="1">
            <a:off x="1907640" y="450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1692360" y="623736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TCHOBANOGLOUS, 199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4356000" y="765000"/>
            <a:ext cx="47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mplificação das interrelações  entre os elementos de um sistema de gerenciamento de Resíduos Sól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0"/>
          <p:cNvSpPr/>
          <p:nvPr/>
        </p:nvSpPr>
        <p:spPr>
          <a:xfrm>
            <a:off x="1835280" y="3487680"/>
            <a:ext cx="963360" cy="66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síduos Sólidos Urban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3073320" y="483408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3348000" y="25192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omiciliar e Comer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3348000" y="319896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ntulh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3348000" y="386568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od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3348000" y="4637160"/>
            <a:ext cx="1079640" cy="44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Correla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3073320" y="406224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3073320" y="338292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073320" y="271620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3058920" y="2716200"/>
            <a:ext cx="14040" cy="280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2798640" y="377496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1476360" y="2060640"/>
            <a:ext cx="1322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348000" y="2060640"/>
            <a:ext cx="10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3348000" y="53164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de Saú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3073320" y="551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4444920" y="2727360"/>
            <a:ext cx="182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444920" y="407340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4627440" y="2727360"/>
            <a:ext cx="15840" cy="214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627440" y="3692520"/>
            <a:ext cx="16462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273720" y="3510000"/>
            <a:ext cx="1463760" cy="4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Área de 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4444920" y="484488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809960" y="531648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cin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444920" y="5511960"/>
            <a:ext cx="36504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456240" y="532764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scória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999040" y="5511960"/>
            <a:ext cx="457200" cy="10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7005600" y="3994200"/>
            <a:ext cx="1800" cy="127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902120" y="2071800"/>
            <a:ext cx="1398600" cy="27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RA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188040" y="207180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826920" y="549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luxograma Proposto para o Gerenciamento das Atividades do Sistema Integrado de Resíduos Sólidos Urbanos da Cidade de Parnamirim/RN.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Lider, 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732040" y="2881440"/>
            <a:ext cx="36781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Gestão Integrada de Resíduos Sól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998800" y="533520"/>
            <a:ext cx="3144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80880" y="5334120"/>
            <a:ext cx="32004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Regulamento de Limp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Urban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46160" y="4079880"/>
            <a:ext cx="24382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809880" y="4876920"/>
            <a:ext cx="25146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04920" y="1295280"/>
            <a:ext cx="35812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, trabalho informal,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486400" y="1219320"/>
            <a:ext cx="281952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18800" y="2514600"/>
            <a:ext cx="149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632280" y="4267080"/>
            <a:ext cx="214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61880" y="3022560"/>
            <a:ext cx="1243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010280" y="3429000"/>
            <a:ext cx="19051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4572000" y="9144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7"/>
          <p:cNvSpPr/>
          <p:nvPr/>
        </p:nvSpPr>
        <p:spPr>
          <a:xfrm flipV="1">
            <a:off x="4572000" y="39625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1676520" y="326376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3200400" y="396252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20"/>
          <p:cNvSpPr/>
          <p:nvPr/>
        </p:nvSpPr>
        <p:spPr>
          <a:xfrm flipH="1" flipV="1">
            <a:off x="6019920" y="3962160"/>
            <a:ext cx="761760" cy="1600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1"/>
          <p:cNvSpPr/>
          <p:nvPr/>
        </p:nvSpPr>
        <p:spPr>
          <a:xfrm flipH="1">
            <a:off x="6400800" y="2666880"/>
            <a:ext cx="9144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2"/>
          <p:cNvSpPr/>
          <p:nvPr/>
        </p:nvSpPr>
        <p:spPr>
          <a:xfrm flipH="1">
            <a:off x="6400440" y="359424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429000" y="22860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5943600" y="22096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5"/>
          <p:cNvSpPr/>
          <p:nvPr/>
        </p:nvSpPr>
        <p:spPr>
          <a:xfrm flipH="1" flipV="1">
            <a:off x="6400440" y="39625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6"/>
          <p:cNvSpPr/>
          <p:nvPr/>
        </p:nvSpPr>
        <p:spPr>
          <a:xfrm flipV="1">
            <a:off x="2590920" y="3962160"/>
            <a:ext cx="15228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534000" y="5105520"/>
            <a:ext cx="2210040" cy="100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00:29:29Z</dcterms:created>
  <dc:creator>Sérgio</dc:creator>
  <dc:description/>
  <dc:language>en-US</dc:language>
  <cp:lastModifiedBy>ROJAS</cp:lastModifiedBy>
  <dcterms:modified xsi:type="dcterms:W3CDTF">2014-05-08T01:30:40Z</dcterms:modified>
  <cp:revision>45</cp:revision>
  <dc:subject/>
  <dc:title>Apresentação do PowerPoint</dc:title>
</cp:coreProperties>
</file>